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D2D-5237-467A-B87F-49D11491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E1B-3F63-450E-B11A-0D5CFAA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4D-468A-4FDF-A77C-40B49A4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394-DBCD-4E99-ABFC-A0C1403F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6E3-28E2-4DFE-923F-FC96102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B7C-2C39-433B-9EBF-2F75512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87A-8F9E-498D-8D79-42D28F9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B39-C30E-4833-95CA-D4822E7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1E5-CBDB-4A04-AAE9-7B6CEC6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B57-94C4-4E17-95E8-C50DCF2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BA8-D2F5-4320-BC34-A6BB672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318-ACCB-4C8D-A706-3BD74F0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3DB-B3DD-4C7B-96EA-6D200CD9B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uesday 5/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8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 Teacher Appreciation Week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 maps? Turn in with Coup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turn in your ORANGE reflection questions (Dynastic vs. 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1165320"/>
            <a:ext cx="3028680" cy="28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886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HINA’S ROAD TO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8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dern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12) Dynasty rul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12-1949)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49--?) Communist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762440" cy="334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3962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nners” are ultimately the Communis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is mean for the Chinese peop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life change between the Dynastic and Communist e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ick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393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 “shifting” and “wi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picture of a “shifting wi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“shifting wind” in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896480" cy="689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HIFTING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19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of speech in which a word or phrase is applied to an object or action to which it is not literally appli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hing regarded as representative or symbolic of something else, esp. something abs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itari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 c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takes specific ingredients (such as a dynamic leader and control) to create the final product, a system of government. Everyone wants a slice of that power, but sometimes it can come back to haunt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248616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6934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 Assessment for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pho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eras of Communism in China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ynastic, Communist (Mao), Communist (Mo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tages of a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choose the metap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 due date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riday, May 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e will have work time before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90440" y="-571680"/>
            <a:ext cx="9524880" cy="800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ifting Winds of Communis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S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s – 15 minute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ODAY – Finish 3-4 stations out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m – Chinese Revolution (25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Stations Thursday! IF YOU ARE ABSENT, check the Wiki to complete th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07:03Z</dcterms:created>
  <dc:creator>MCPASD</dc:creator>
  <dc:description/>
  <dc:language>en-US</dc:language>
  <cp:lastModifiedBy>MCPASD</cp:lastModifiedBy>
  <dcterms:modified xsi:type="dcterms:W3CDTF">2012-05-08T18:10:49Z</dcterms:modified>
  <cp:revision>51</cp:revision>
  <dc:subject/>
  <dc:title>CHINA’S ROAD TO COMMUNISM</dc:title>
</cp:coreProperties>
</file>